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613-71EE-444F-8398-31F57C2E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7BF8-CD68-4E94-B830-83EFD6E8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E9F-3EA2-4466-BA61-6DA6519A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9FB-5735-4E14-BA82-DCE70E73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7192-4975-4DBE-B861-0C756D33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9308-0539-4A03-B2B3-0BEEE7AD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657-7F7F-4C74-AAC7-2F01D227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EE1-48C3-4D59-BAE7-02AE767F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7A8-DC79-4944-8CA2-7B3B5F08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D66-1407-47D5-BC56-49974070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7A1-06AA-4792-BBFC-D08A5227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D4E-5A02-40BD-855C-8B721453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5205-43CF-4F04-B84C-17AF4F0E3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2:35:21Z</dcterms:created>
  <dc:creator> </dc:creator>
  <dc:description/>
  <dc:language>en-US</dc:language>
  <cp:lastModifiedBy> </cp:lastModifiedBy>
  <dcterms:modified xsi:type="dcterms:W3CDTF">2009-03-10T12:35:35Z</dcterms:modified>
  <cp:revision>1</cp:revision>
  <dc:subject/>
  <dc:title>Slide 1</dc:title>
</cp:coreProperties>
</file>